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6D26-D1A7-49C9-B944-628B707C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E3B3-2DB3-4738-8363-0377846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4497-FFE9-41B7-ADDA-C8196760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2FC3-909A-4386-95A7-9993AF78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AAEF-957B-4074-BFCE-628A72CA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A890-C64B-47D6-90BB-EEE5EA1E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9843-1844-4235-8029-C9DB251A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EEC3-EE7E-4DC5-8846-29A4DE9C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3CD4-7382-48F9-8369-4278B013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A819-CE93-4CFC-897F-F7D5B7C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09D7-1BFE-4488-8DEC-BEB214FE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962F-B138-406D-9A34-3992A09C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054-EFBF-42C2-982E-98DA87C0DA88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ff8600"/>
                </a:solidFill>
                <a:latin typeface="Arial"/>
              </a:rPr>
              <a:t>3.8 Aboriginal Population Patterns</a:t>
            </a:r>
            <a:endParaRPr b="0" lang="en-US" sz="43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96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7280"/>
            <a:ext cx="73152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Aboriginal Land Claim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0756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began to demand  </a:t>
            </a:r>
            <a:r>
              <a:rPr b="0" lang="en-CA" sz="3200" spc="-1" strike="noStrike">
                <a:solidFill>
                  <a:srgbClr val="ff3300"/>
                </a:solidFill>
                <a:latin typeface="Arial"/>
              </a:rPr>
              <a:t>land claims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rom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overnments might not want to settle land claims because </a:t>
            </a:r>
            <a:r>
              <a:rPr b="0" lang="en-CA" sz="3200" spc="-1" strike="noStrike">
                <a:solidFill>
                  <a:srgbClr val="ff8600"/>
                </a:solidFill>
                <a:latin typeface="Arial"/>
              </a:rPr>
              <a:t>the land claim boundaries are hard to define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, there are homes on the land and settling the claims takes a great deal of </a:t>
            </a:r>
            <a:r>
              <a:rPr b="0" lang="en-CA" sz="3200" spc="-1" strike="noStrike">
                <a:solidFill>
                  <a:srgbClr val="ff8600"/>
                </a:solidFill>
                <a:latin typeface="Arial"/>
              </a:rPr>
              <a:t>negotiation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86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Way of Lif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560" y="134136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boriginal peoples across Canada had very different ways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Beliefs and languages depended on the environment that they live in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619280" y="23670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995640" y="2367000"/>
            <a:ext cx="2013120" cy="21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6443640" y="236700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3" descr=""/>
          <p:cNvPicPr/>
          <p:nvPr/>
        </p:nvPicPr>
        <p:blipFill>
          <a:blip r:embed="rId4"/>
          <a:stretch/>
        </p:blipFill>
        <p:spPr>
          <a:xfrm>
            <a:off x="1481040" y="4438800"/>
            <a:ext cx="242568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5" descr=""/>
          <p:cNvPicPr/>
          <p:nvPr/>
        </p:nvPicPr>
        <p:blipFill>
          <a:blip r:embed="rId5"/>
          <a:stretch/>
        </p:blipFill>
        <p:spPr>
          <a:xfrm>
            <a:off x="3859200" y="4413240"/>
            <a:ext cx="201132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6" descr=""/>
          <p:cNvPicPr/>
          <p:nvPr/>
        </p:nvPicPr>
        <p:blipFill>
          <a:blip r:embed="rId6"/>
          <a:stretch/>
        </p:blipFill>
        <p:spPr>
          <a:xfrm>
            <a:off x="5857920" y="4511520"/>
            <a:ext cx="33415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Way of Lif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628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eople built their homes out of the resources that were available such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852640"/>
            <a:ext cx="2771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256248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322960" y="2843280"/>
            <a:ext cx="3821040" cy="19540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3" descr=""/>
          <p:cNvPicPr/>
          <p:nvPr/>
        </p:nvPicPr>
        <p:blipFill>
          <a:blip r:embed="rId4"/>
          <a:stretch/>
        </p:blipFill>
        <p:spPr>
          <a:xfrm>
            <a:off x="-109440" y="4943520"/>
            <a:ext cx="2822400" cy="154296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4" descr=""/>
          <p:cNvPicPr/>
          <p:nvPr/>
        </p:nvPicPr>
        <p:blipFill>
          <a:blip r:embed="rId5"/>
          <a:stretch/>
        </p:blipFill>
        <p:spPr>
          <a:xfrm>
            <a:off x="2670120" y="4803840"/>
            <a:ext cx="2766960" cy="15364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5" descr=""/>
          <p:cNvPicPr/>
          <p:nvPr/>
        </p:nvPicPr>
        <p:blipFill>
          <a:blip r:embed="rId6"/>
          <a:stretch/>
        </p:blipFill>
        <p:spPr>
          <a:xfrm>
            <a:off x="5718240" y="4784760"/>
            <a:ext cx="2792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304920" y="0"/>
            <a:ext cx="7553160" cy="1450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7892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ntact with Europeans changed many Aboriginals way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some cases they welcomed the changes, such as the introduction of iron tools that they could use and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ever often changes were not wanted by the Aborigi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596880" y="115920"/>
            <a:ext cx="75470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uropeans forced the aboriginals 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60480" y="1976400"/>
            <a:ext cx="3719520" cy="224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60480" y="4437000"/>
            <a:ext cx="37195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4" descr=""/>
          <p:cNvPicPr/>
          <p:nvPr/>
        </p:nvPicPr>
        <p:blipFill>
          <a:blip r:embed="rId4"/>
          <a:stretch/>
        </p:blipFill>
        <p:spPr>
          <a:xfrm>
            <a:off x="3633840" y="2193840"/>
            <a:ext cx="5437080" cy="152424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5" descr=""/>
          <p:cNvPicPr/>
          <p:nvPr/>
        </p:nvPicPr>
        <p:blipFill>
          <a:blip r:embed="rId5"/>
          <a:stretch/>
        </p:blipFill>
        <p:spPr>
          <a:xfrm>
            <a:off x="5553000" y="3316320"/>
            <a:ext cx="1590840" cy="152388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6" descr=""/>
          <p:cNvPicPr/>
          <p:nvPr/>
        </p:nvPicPr>
        <p:blipFill>
          <a:blip r:embed="rId6"/>
          <a:stretch/>
        </p:blipFill>
        <p:spPr>
          <a:xfrm>
            <a:off x="4578480" y="4932360"/>
            <a:ext cx="3200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1"/>
          <a:stretch/>
        </p:blipFill>
        <p:spPr>
          <a:xfrm>
            <a:off x="523800" y="19080"/>
            <a:ext cx="7547040" cy="1449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112536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uropeans forced the aboriginals 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9080" y="1844640"/>
            <a:ext cx="3832200" cy="23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4437000"/>
            <a:ext cx="3851280" cy="2421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3" descr=""/>
          <p:cNvPicPr/>
          <p:nvPr/>
        </p:nvPicPr>
        <p:blipFill>
          <a:blip r:embed="rId4"/>
          <a:stretch/>
        </p:blipFill>
        <p:spPr>
          <a:xfrm>
            <a:off x="4230720" y="1895400"/>
            <a:ext cx="4273560" cy="234792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4" descr=""/>
          <p:cNvPicPr/>
          <p:nvPr/>
        </p:nvPicPr>
        <p:blipFill>
          <a:blip r:embed="rId5"/>
          <a:stretch/>
        </p:blipFill>
        <p:spPr>
          <a:xfrm>
            <a:off x="4383000" y="4572000"/>
            <a:ext cx="3969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Aboriginal Land Claim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1484280"/>
            <a:ext cx="878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 European and other immigrants were settling in Canada, governments made </a:t>
            </a:r>
            <a:r>
              <a:rPr b="0" lang="en-CA" sz="3200" spc="-1" strike="noStrike">
                <a:solidFill>
                  <a:srgbClr val="ffc000"/>
                </a:solidFill>
                <a:latin typeface="Arial"/>
              </a:rPr>
              <a:t>treaties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ith the first nations peoples who lived on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First Nations Peoples gave up much of their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19080"/>
            <a:ext cx="73152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Aboriginal Land Claim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960" y="907920"/>
            <a:ext cx="8783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return from their land, they recei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1539720"/>
            <a:ext cx="2116080" cy="1330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2870280"/>
            <a:ext cx="2124000" cy="153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20520" y="4402080"/>
            <a:ext cx="2130480" cy="140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-27000" y="5661000"/>
            <a:ext cx="2178000" cy="12114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4" descr=""/>
          <p:cNvPicPr/>
          <p:nvPr/>
        </p:nvPicPr>
        <p:blipFill>
          <a:blip r:embed="rId5"/>
          <a:stretch/>
        </p:blipFill>
        <p:spPr>
          <a:xfrm>
            <a:off x="2438280" y="1547640"/>
            <a:ext cx="5797800" cy="152424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5" descr=""/>
          <p:cNvPicPr/>
          <p:nvPr/>
        </p:nvPicPr>
        <p:blipFill>
          <a:blip r:embed="rId6"/>
          <a:stretch/>
        </p:blipFill>
        <p:spPr>
          <a:xfrm>
            <a:off x="2030400" y="2871720"/>
            <a:ext cx="7040520" cy="23464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6" descr=""/>
          <p:cNvPicPr/>
          <p:nvPr/>
        </p:nvPicPr>
        <p:blipFill>
          <a:blip r:embed="rId7"/>
          <a:stretch/>
        </p:blipFill>
        <p:spPr>
          <a:xfrm>
            <a:off x="2017800" y="4883040"/>
            <a:ext cx="6808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3152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Aboriginal Land Claim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y the 1960’s, many Aboriginal nations had begun to question whether the governments had fulfilled the treaties that their ancestors had sign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pointed to where the government had sold reserve land or had allowed mining or forestry to take place without consulting Aboriginal nations or compensating them in 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6:33:29Z</dcterms:created>
  <dc:creator>Jason</dc:creator>
  <dc:description/>
  <dc:language>en-US</dc:language>
  <cp:lastModifiedBy>Jason</cp:lastModifiedBy>
  <dcterms:modified xsi:type="dcterms:W3CDTF">2011-05-06T17:50:50Z</dcterms:modified>
  <cp:revision>7</cp:revision>
  <dc:subject/>
  <dc:title>3.8 Aboriginal Population Patterns</dc:title>
</cp:coreProperties>
</file>